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media/image1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BD5-C66D-481F-BBA5-7311E2D9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661-50E9-404A-A4C8-CDFAB145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1BD-81BD-4CBD-AC37-75B73F2D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0EF-D997-47F9-A1AC-648064F4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C5BD-D2C1-4D2D-B863-A1A2DE65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94EF-7D7D-4A86-A40C-C3653AA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2B06-E992-48E1-B261-96465CD6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B76F-6B4F-47A8-90C9-FE941EC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BCF9-8DF8-40F5-97BA-46644EF3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935D-C425-4C22-8A67-525F0215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CA55-74D6-4F13-8F7E-2BF1C87A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B8E-8BAA-49DB-8009-3392DEB7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46A3-6FE4-47F4-AFD6-AE6F047D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84E3-FB39-4331-A0EE-A8ED020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B76-C9CB-43A8-B8CC-AFB89C4D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65E-F685-43BE-BE65-61EEAE1F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CEBB-A7DE-4107-900B-A89CBEB1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2C066-3DFA-4C6E-853A-EDD45260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C6251-B0F7-457F-B7B5-88F30D21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A4A7-B09C-49F9-A785-383D67D2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CE07-9F99-43B6-A00D-175B00A0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3138-90AE-45D4-9803-4D1FAFF7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68D-186D-462F-8905-B6BC0445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BEBE-1141-4BF1-A58E-E35B1B1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F753-A323-4FC4-82A6-D2BF925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057F8-DEB5-4E3E-B0E9-C78EF985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C3C2F-E3C6-4505-BE53-6AFA9D88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8F6F8-4733-40B1-86A6-7971D52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431B-3B7B-4659-A4D3-38BD2F5E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CD4F-8750-4BED-A972-AC00615A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B721-EAF0-4568-94BE-38F2A1E8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D6950-12CA-4E39-9689-192E1B3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0D7C-4B1C-4AF2-B20F-FFB4AC57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DE3-6EE6-4425-8F3D-CBD1353B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493F-A459-46AF-9BC2-2D4C4E01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6F7B5-7F7C-4ABE-A14B-E098810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0CEA-5C3A-485A-8713-FFFE98D8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538E-F001-4E75-8BF1-AAE567C5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3CFD-5B48-4A48-8AD4-381F120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37194-846A-4442-B4A6-1F4533C8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8577-2075-4700-8D79-D4AA0EF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33C4E-CBF5-401F-99CF-021CC7D4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82CF-E505-421E-90C6-222450EF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8BA-3CFC-46D2-B685-6D426A7F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232-B3AC-422C-9091-1520F62E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DC42-E013-4B7C-A69F-74A3B8F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B93-3CF6-4764-B00B-76A64BBE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02C-2B30-4151-9F20-718E0CE3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D38-879D-40F5-B22C-C0364ED1701C}" type="slidenum"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7e2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7e2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C63E-D189-47E1-B78D-1CB9907D77BF}" type="slidenum"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7e2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7e2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82ac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2ac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ed8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A8D-A371-4B7C-8D68-2E79749CE694}" type="slidenum">
              <a:rPr b="0" lang="en-US" sz="1200" spc="-1" strike="noStrike">
                <a:solidFill>
                  <a:srgbClr val="bed8e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30000">
                  <a:alpha val="45098"/>
                </a:srgbClr>
              </a:gs>
              <a:gs pos="100000">
                <a:srgbClr val="006cd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3a1">
                  <a:alpha val="45098"/>
                </a:srgbClr>
              </a:gs>
              <a:gs pos="100000">
                <a:srgbClr val="d400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b0f0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070c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206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a4f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BD8-409E-4983-847C-6E53365D3172}" type="slidenum">
              <a:rPr b="0" lang="en-US" sz="1200" spc="-1" strike="noStrike">
                <a:solidFill>
                  <a:srgbClr val="0a4f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2acff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Birth of Interest Group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 factor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conomic Develop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ment Poli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overnment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60s and 1970s: rapid growth in interest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arise out of natural social proce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Explaining Proliferation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sons why interest groups are common in the 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cleavages = variety of inter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erican constitutional system multiplies the points at which groups can gain access to gover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akness of political par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www.clipartguide.com/_small/0512-0801-1418-4009.jpg"/>
          <p:cNvPicPr/>
          <p:nvPr/>
        </p:nvPicPr>
        <p:blipFill>
          <a:blip r:embed="rId1"/>
          <a:stretch/>
        </p:blipFill>
        <p:spPr>
          <a:xfrm>
            <a:off x="1981080" y="4419720"/>
            <a:ext cx="2210040" cy="1693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www.school-clipart.com/_small/0512-0712-2813-3735.jpg"/>
          <p:cNvPicPr/>
          <p:nvPr/>
        </p:nvPicPr>
        <p:blipFill>
          <a:blip r:embed="rId2"/>
          <a:stretch/>
        </p:blipFill>
        <p:spPr>
          <a:xfrm>
            <a:off x="5181480" y="4419720"/>
            <a:ext cx="2063880" cy="173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Institutional Interest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est Group: any organization that seeks to influence public poli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itutional Interests: individuals/organizations representing other organiz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mber of Comme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merican Cotton Manufactur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1" descr="C:\Users\Hannah\AppData\Local\Microsoft\Windows\Temporary Internet Files\Content.IE5\589BTOC0\MC900322635[1].wmf"/>
          <p:cNvPicPr/>
          <p:nvPr/>
        </p:nvPicPr>
        <p:blipFill>
          <a:blip r:embed="rId1"/>
          <a:stretch/>
        </p:blipFill>
        <p:spPr>
          <a:xfrm>
            <a:off x="6095880" y="3657600"/>
            <a:ext cx="2286000" cy="2602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Membership Interest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ganizations that support the interests of their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tablishes a great sense of civic duty and political effic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www.arthursclipart.org/silhouettes/people/CROWD.gif"/>
          <p:cNvPicPr/>
          <p:nvPr/>
        </p:nvPicPr>
        <p:blipFill>
          <a:blip r:embed="rId1"/>
          <a:stretch/>
        </p:blipFill>
        <p:spPr>
          <a:xfrm>
            <a:off x="3238560" y="3732120"/>
            <a:ext cx="2666880" cy="26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Membership Incentive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entive: something of value one cannot get without joining an organ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idarity incentives: social rewar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erial Incentives: money/things of monetary valu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rposive Incentive: most difficult; benefit from serving a cause or principle; used by ideological interest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ological Interest Groups: attracts members by appealing to political convictions or princi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blic-Interest Lobby: principally benefits non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Social Movement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cial Movement: widely shared demand for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vironmental Movement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erra Club (1890s), Wilderness Society (1930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minist Mov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 Kinds: Solidarity Incentive, Purposive Incentive, Material Benef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gue of Women Voters (192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ion Mov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945: reached peak of member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cline caused by economy shift from industrial production and decline in union approv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Funds for Interest Group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 Sources of Mone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undation Gr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deral Gr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ect Ma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ership organizations have a hard time raising money outside of du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fund public-interest lobby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Users\Hannah\AppData\Local\Microsoft\Windows\Temporary Internet Files\Content.IE5\KP5YIT1L\MC900351741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186516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5394"/>
                </a:solidFill>
                <a:latin typeface="Calibri"/>
              </a:rPr>
              <a:t>The Problem of Bias</a:t>
            </a:r>
            <a:endParaRPr b="0" lang="en-US" sz="5000" spc="-1" strike="noStrike">
              <a:solidFill>
                <a:srgbClr val="0b5394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ests groups in Washington reflect an upper-class b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ll-off people more likely to join interest grou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re groups representing busi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070c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ew public-interest groups and civil rights/minority groups in Washingt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45:34Z</dcterms:created>
  <dc:creator>middleswarthm</dc:creator>
  <dc:description/>
  <dc:language>en-US</dc:language>
  <cp:lastModifiedBy>kluvere</cp:lastModifiedBy>
  <dcterms:modified xsi:type="dcterms:W3CDTF">2012-03-13T01:05:16Z</dcterms:modified>
  <cp:revision>10</cp:revision>
  <dc:subject/>
  <dc:title>Kinds of Interest Groups</dc:title>
</cp:coreProperties>
</file>